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933C-1906-4280-B9BC-AA528375B4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B4A4-AA40-4156-BF47-14AEFC938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3E2-8609-4B77-9546-FE85ABB011C3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028B-41AA-4D54-9D0E-C661616C11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833-DFB5-4FC4-A650-136CD5C8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C41-B8D7-42DF-883E-2A29BDF6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02E23-FC1E-4B15-A269-55CF0E4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7450B-2DC9-4C99-A8C4-CD124B3A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FCAB4-95AD-4C16-B874-6F5F9415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6C55B-6413-45D4-A78B-1F6E70B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8D5A6-B378-4334-A4E7-4B50E5F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89DBE-5EA5-425E-B3BE-AF56AB9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2DD84-36A4-4255-A6F1-15F036BE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A9F03-F26E-4453-BA77-F41486A8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0036E-0CCD-4455-B082-FC758E71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6763-AD8C-4756-8274-0636294F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975-ED02-46C6-81A0-AD84092E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7A1C4-F2FE-4325-9360-8815AEE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D43B8-9170-454F-9239-1DF0B2C5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7C335-C47E-4EA0-99A0-B7D7EA5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0680-CC46-468D-82E0-C7BC76C2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27AA4-B999-41F4-864F-0350C1E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149BA-69A6-4143-A58F-F5607CA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8C73F-5FFF-4FF8-84D0-67AEC97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98216-B31F-407E-BEED-F76A46A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6A332-CFAC-41DC-803A-516A6D2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BC459-75AE-4EF1-8B4B-773CE47B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DDF-D975-42F8-8313-B97D7CF7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50E41-9B3B-4747-B9EA-DAA0C019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B39EB-E46E-4897-B0FD-51AA6457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0378-0FFB-41D9-96B2-EB9155DD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8E967-DF11-406B-8E3F-AF4FACC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F8BD8-ED6D-4322-A89F-A1B7E30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E8076-D355-4BFF-A43F-C6D26B7B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C4C3-2844-430E-BA57-E1A0E90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D8775-C01F-44D1-9A69-1D6E718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BC9F5-77F2-41A1-9F67-F5D700F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881A-EF53-4BC3-9175-262EAD3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470-3196-4109-9957-5D6F48DC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E64D9-CA18-4C4A-BAB7-3F7F09F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B06DC-3486-40C5-B7C7-A5686345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610EE-BB39-43DF-B86B-18352E6E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F48AE-6D0D-4243-9643-CE9572B8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A9F7F-5CFB-4430-8E2B-25D75C73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251A8-8E02-4DA4-AE62-0B518876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10FE7-FCF6-406E-85A4-D0971D9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B4B4A-0AD7-4157-B3C3-C098F88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0C038-C277-4935-9809-88FC5A73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C3872-7C0F-42CA-9A31-44DB0B9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DE33-8FF6-4036-B216-8541407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20B6E-2E2B-46EA-A199-F062446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05FB5-F878-4E26-84F9-DF2EBCC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AC098-D3C1-4158-8E07-4CE0528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BEDEB-B080-4D94-BD0D-0DD51F6F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88E44-009A-4332-9201-EB7ACF49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0F449-C43A-4F69-A59F-9FF7B25D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85E36-6B37-4F52-89B1-727753A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83264-EA70-4BA6-AA01-598D3644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80AD8-94A8-4908-BABD-68CE56BE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31007-0DF0-4325-A459-35DEB73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92A-B769-4F42-994B-D0683E68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04AEF-FF2B-4062-81F0-9972D519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CDBB9-DF96-484F-8A61-0F73132A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1B3A7-7534-4CD5-B276-E195CC8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20190-DA77-455F-A39D-D28B303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4AFBF-276D-46A9-8472-3EBF598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78A41-0AC1-4204-AD15-6B707900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9904F-3A76-4703-9529-C4F49695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1F6ED-4510-4E0E-85A3-623242FA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B0A58-029B-4859-83E5-6F53A28F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BF52C-8631-4AA1-8971-56DCE55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47A0-BC31-4D67-B0FA-98C91E9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79510-D8FD-4FAC-874C-8EE477D1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DA037-786D-49BE-8DC6-DE80787B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CD149-FC77-4DBE-8C49-7892875E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71E7A-B667-4EA2-8786-71EE3C1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228D5-617A-4803-8B63-FEA94681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143B3-B032-4AF2-AE19-8B86C65D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C692D-E5F7-4CE2-BA99-A1D48B9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1EB90-F932-452E-863F-30A34ACE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07240-5E4A-4660-85AF-E2E93E12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01681-283B-42A0-9682-2B691DCD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573-423B-4F63-80DD-6072BE4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F2576-72FB-4776-9DA2-91749296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0CE88-4F6B-426D-8EEA-F68E1011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EFC9C-751E-46FE-8F3F-26361613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C5F50-B77D-4708-A848-C23CA72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84AB9-B234-4B99-969A-CD0D402B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4487A-1431-4075-90A9-BD5B6FB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88CE2-A885-4FAD-AF31-9BFF2AAE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2C8E4-1FCA-4355-BCA1-31838F2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942E9-998A-46C3-A992-3CF050B4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7D270-8B3B-4B64-9035-A2E9A7C1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7DF5-073C-4B19-9CCF-5EAB5E3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DB4D7-EF63-443F-A9E2-F1D0A51C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FC8F0-7AC8-454E-AF1E-078E8856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3A110-142C-4571-B445-DF02705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7B7FE-EE29-42CD-B7F6-80C8FD5E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D4F78-890F-4ADF-B63D-E3F88A63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10E01-5CAD-4C41-8C07-0B0E168D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7EB18-FD6E-4884-934D-1D2E1EC1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4FC0B-CC3B-400B-BBB7-CF48C21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7F8F6-569D-49ED-A64F-E35337D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EBA8A-A1F2-459C-834F-015F20F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008-AA6F-4897-9D7C-F0D62B20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62172-0EF6-4439-8383-6C30A47E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DB438-35C6-429C-8392-A0DDC850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F936D-07CD-48CD-99D5-ADA0208C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D02-1FE9-4EA5-838A-4F733D34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76E-6EBA-4084-B91C-1763322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2D6-0CC3-49C9-B3CD-63E403D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5B4-A5E5-4B1A-A06E-276E03C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7934-CE7D-476E-9D35-945FB591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043-0002-4E0C-BFAC-66C22C74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20EE3-521C-471B-A199-1CB74501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092A-8EFD-4586-8EBA-ADFCAA7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0D46-6DDD-4559-906F-986299C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AA82-6938-4E3F-8D81-5810555B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5AC2-5DE1-483C-9763-544BE05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B35-F88D-4331-9470-56655A2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75CE-B433-45B7-8237-CD403EC9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91A4-D38F-4E7F-98D1-FCEDCD3D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AE2D-4169-49FD-8E3E-D63BB449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912A-654B-49BB-B546-B484FC3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952A-8137-4130-AE34-6976AF8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FB9D-E50D-49D8-AAF6-08656D6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A0B6-E12A-448E-9561-76B89E64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0B41-094A-4E31-AF6B-C127BD96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DC3B-CE08-4848-B6FA-40871E73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EF53-EC45-439C-93C0-AB4BEDB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99A-56DD-44C8-90F2-FF11D7B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4A36-0D36-485B-9266-F77CAB32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0A51E-3EB4-46A3-9C6D-B06ACB9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FD82-21ED-40BC-A29B-9DAE5D64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256F-AE9A-4C31-8AEB-C4E5728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5B0E-1290-4A22-84B8-0716B91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E349-E170-4707-A73B-965A196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8F88-C31E-4AE7-8E4C-70478D0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B16A-A51A-49AE-9F72-5EA1B9F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7371-508D-4BF3-B8AB-F25ED1F7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6DE8-049C-4DD4-AE95-4C93EA69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BBA-7E7A-4F68-B2B6-AAB4A74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3F99-B8F6-4C6A-8BF5-EB824651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2253-0FA4-4003-B5B9-EF0AA342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F5D40-585D-4315-8B8B-EDB59D79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F87E-EB22-4416-8CE0-916303C7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F41C-217B-437D-B061-D4581E4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C932-3FB5-4697-985C-4E169A3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B358-E0C2-4F47-B7DE-E21296A6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2F1C1-5570-4E04-B5E7-0E0368D1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329E-C3E1-48B8-A914-AB4AF61E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8441-9AAD-4580-B2E2-F6A7EA30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044-8752-4CD6-BC7A-CE713C03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928A-479C-4B43-9427-7CFBDBEA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7A2B-1E1B-422C-9E35-A3305E37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6B270-6A60-4EBA-9A7D-0DCB36A5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4241-A0FC-48C0-BAAC-F19A1CCC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72D13-2CD7-4B44-AB6C-B1546DB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4288-C1F3-4B1E-94AA-EEDFA667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D22E9-4E2D-487B-9B26-D635A35A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F45E-B3F2-4B49-9FE1-3C6D6B97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469F-0E46-4BF1-B827-E17263C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C3246-5B35-4384-916C-17D3866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90A-D05E-46BD-8FAB-963B24ED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EE95-120B-4BB3-AC7F-C6C065A0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6D2BC-92B9-4A66-90FF-F7ACAFD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E36D0-2FC6-48D3-84D4-4296A774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4BA38-2353-4690-BC77-D9127305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8EBBB-E932-4B36-BBCE-B39924FC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9DC2-884D-4223-863F-EB00E096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59A88-126D-4DA7-969F-A3070E6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CEFC-6A5F-4A27-A007-2022661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C8E27-A0EA-400F-96E3-9CA12846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C5981-9D05-4AFF-9801-DD444DBE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241-87D3-4594-AFEA-2042EAC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88B8-49EA-4014-9E99-B1D6240A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87F09-AC90-4C8D-8D13-9BA8060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82F8-EB55-46F1-B448-91BEA111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17BD-7E3F-4351-A91D-45788979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7DAB-3B9E-4A86-A38C-41F5711A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7FF3D-3FC6-4E0B-9508-8168D737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86DB-014F-457E-97F3-3850F46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D46B-85A9-4A15-911A-37FDFF1E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8E5AE-054D-4E72-97CC-66B11D2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E40E0-35D3-444E-ABB5-5274A822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6EA-EA93-4202-9A5B-F630C50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327AE-F455-419E-ACEA-A4E53DE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20873-7961-44D6-9423-CA23BF26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EF2A-C2CE-4C54-BDEA-47F81B1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8F71C-3F27-4EB2-AEDB-471A0F6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B564-1FA6-458A-801C-2D85991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556C-9E4C-4932-B41F-90E70FEB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EB02-8054-4FA2-AF01-2AF4FE6F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DF7E2-3C7E-407E-91F5-EA191F75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67055-7AD5-4245-91A2-845F65D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B1DB-72E5-428C-9FA0-D62B708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11F-1444-43AB-8752-584FB9601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CD8-0663-45D8-9AF6-A343ECC2B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00DC-E09E-464C-96A2-C523F9B70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FD15-7213-4312-89D0-76909BAAD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082-06FD-443C-A9C7-934F1D1C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867-33BB-4024-A2B2-95562AA57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48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48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49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9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1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1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3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3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54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4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54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4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071B-A1AB-4CCF-BEF6-93FDF81A9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59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9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59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0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0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2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2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64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4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64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5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ftr" idx="4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C51-FCB2-4805-BB3B-6BB65DCD6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2C38-906F-4721-ACDE-27FB4AEF3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7C6-434E-4855-B950-49780999C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E5A-C4C8-4263-BB1E-15552835B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E96F-4F7B-4779-B6D1-CCD334978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BDB-320E-42C4-B22A-215DABA64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752-9A21-4BAE-87D5-FED7FABFB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26D-D53A-43A7-BAFE-BD228AC43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Lucida Bright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Lucida Bright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1425-3746-4D0C-875F-F88BC19CE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Lucida Bright"/>
              </a:rPr>
              <a:t>Energy Change </a:t>
            </a:r>
            <a:endParaRPr b="0" lang="en-US" sz="66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Chapter 5 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Bright"/>
              </a:rPr>
              <a:t>The Nature of Energy</a:t>
            </a:r>
            <a:endParaRPr b="0" lang="en-US" sz="4000" spc="-1" strike="noStrike">
              <a:solidFill>
                <a:srgbClr val="ffffff"/>
              </a:solidFill>
              <a:latin typeface="Lucida Brigh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thalpy of Phase Change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graphicFrame>
        <p:nvGraphicFramePr>
          <p:cNvPr id="1724" name="Content Placeholder 2"/>
          <p:cNvGraphicFramePr/>
          <p:nvPr/>
        </p:nvGraphicFramePr>
        <p:xfrm>
          <a:off x="1725480" y="1600200"/>
          <a:ext cx="5691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1600200"/>
                    <a:ext cx="5691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27" name=""/>
          <p:cNvSpPr/>
          <p:nvPr/>
        </p:nvSpPr>
        <p:spPr>
          <a:xfrm>
            <a:off x="1447920" y="2209680"/>
            <a:ext cx="7086600" cy="3962520"/>
          </a:xfrm>
          <a:prstGeom prst="rect">
            <a:avLst/>
          </a:prstGeom>
          <a:solidFill>
            <a:srgbClr val="e5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8" name=""/>
          <p:cNvSpPr/>
          <p:nvPr/>
        </p:nvSpPr>
        <p:spPr>
          <a:xfrm>
            <a:off x="1447920" y="31240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29" name=""/>
          <p:cNvSpPr/>
          <p:nvPr/>
        </p:nvSpPr>
        <p:spPr>
          <a:xfrm>
            <a:off x="1447920" y="58672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0" name=""/>
          <p:cNvSpPr/>
          <p:nvPr/>
        </p:nvSpPr>
        <p:spPr>
          <a:xfrm>
            <a:off x="1447920" y="55627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1" name=""/>
          <p:cNvSpPr/>
          <p:nvPr/>
        </p:nvSpPr>
        <p:spPr>
          <a:xfrm>
            <a:off x="1447920" y="52578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2" name=""/>
          <p:cNvSpPr/>
          <p:nvPr/>
        </p:nvSpPr>
        <p:spPr>
          <a:xfrm>
            <a:off x="1447920" y="49528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3" name=""/>
          <p:cNvSpPr/>
          <p:nvPr/>
        </p:nvSpPr>
        <p:spPr>
          <a:xfrm>
            <a:off x="1447920" y="46483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4" name=""/>
          <p:cNvSpPr/>
          <p:nvPr/>
        </p:nvSpPr>
        <p:spPr>
          <a:xfrm>
            <a:off x="1447920" y="43434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5" name=""/>
          <p:cNvSpPr/>
          <p:nvPr/>
        </p:nvSpPr>
        <p:spPr>
          <a:xfrm>
            <a:off x="1447920" y="40384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6" name=""/>
          <p:cNvSpPr/>
          <p:nvPr/>
        </p:nvSpPr>
        <p:spPr>
          <a:xfrm>
            <a:off x="1447920" y="37339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7" name=""/>
          <p:cNvSpPr/>
          <p:nvPr/>
        </p:nvSpPr>
        <p:spPr>
          <a:xfrm>
            <a:off x="1447920" y="34290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8" name=""/>
          <p:cNvSpPr/>
          <p:nvPr/>
        </p:nvSpPr>
        <p:spPr>
          <a:xfrm>
            <a:off x="1447920" y="28195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39" name=""/>
          <p:cNvSpPr/>
          <p:nvPr/>
        </p:nvSpPr>
        <p:spPr>
          <a:xfrm>
            <a:off x="1447920" y="25146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0" name=""/>
          <p:cNvSpPr/>
          <p:nvPr/>
        </p:nvSpPr>
        <p:spPr>
          <a:xfrm>
            <a:off x="1447920" y="22096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1" name=""/>
          <p:cNvSpPr/>
          <p:nvPr/>
        </p:nvSpPr>
        <p:spPr>
          <a:xfrm rot="16200000">
            <a:off x="-523080" y="40518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2" name=""/>
          <p:cNvSpPr/>
          <p:nvPr/>
        </p:nvSpPr>
        <p:spPr>
          <a:xfrm>
            <a:off x="915840" y="38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3" name=""/>
          <p:cNvSpPr/>
          <p:nvPr/>
        </p:nvSpPr>
        <p:spPr>
          <a:xfrm>
            <a:off x="917280" y="416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4" name=""/>
          <p:cNvSpPr/>
          <p:nvPr/>
        </p:nvSpPr>
        <p:spPr>
          <a:xfrm>
            <a:off x="1047960" y="4452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5" name=""/>
          <p:cNvSpPr/>
          <p:nvPr/>
        </p:nvSpPr>
        <p:spPr>
          <a:xfrm>
            <a:off x="840240" y="4757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6" name=""/>
          <p:cNvSpPr/>
          <p:nvPr/>
        </p:nvSpPr>
        <p:spPr>
          <a:xfrm>
            <a:off x="840240" y="506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7" name=""/>
          <p:cNvSpPr/>
          <p:nvPr/>
        </p:nvSpPr>
        <p:spPr>
          <a:xfrm>
            <a:off x="822960" y="5367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8" name=""/>
          <p:cNvSpPr/>
          <p:nvPr/>
        </p:nvSpPr>
        <p:spPr>
          <a:xfrm>
            <a:off x="822960" y="56880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49" name=""/>
          <p:cNvSpPr/>
          <p:nvPr/>
        </p:nvSpPr>
        <p:spPr>
          <a:xfrm>
            <a:off x="687960" y="599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0" name=""/>
          <p:cNvSpPr/>
          <p:nvPr/>
        </p:nvSpPr>
        <p:spPr>
          <a:xfrm>
            <a:off x="765000" y="262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1" name=""/>
          <p:cNvSpPr/>
          <p:nvPr/>
        </p:nvSpPr>
        <p:spPr>
          <a:xfrm>
            <a:off x="765000" y="29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2" name=""/>
          <p:cNvSpPr/>
          <p:nvPr/>
        </p:nvSpPr>
        <p:spPr>
          <a:xfrm>
            <a:off x="906480" y="3233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3" name=""/>
          <p:cNvSpPr/>
          <p:nvPr/>
        </p:nvSpPr>
        <p:spPr>
          <a:xfrm>
            <a:off x="906480" y="3538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4" name=""/>
          <p:cNvSpPr/>
          <p:nvPr/>
        </p:nvSpPr>
        <p:spPr>
          <a:xfrm>
            <a:off x="765000" y="2319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1447920" y="4648320"/>
            <a:ext cx="457200" cy="12189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6" name="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66880" y="3124080"/>
            <a:ext cx="1067040" cy="1524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8" name=""/>
          <p:cNvSpPr/>
          <p:nvPr/>
        </p:nvSpPr>
        <p:spPr>
          <a:xfrm>
            <a:off x="3733920" y="3124080"/>
            <a:ext cx="3429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7162920" y="24379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60" name=""/>
          <p:cNvSpPr/>
          <p:nvPr/>
        </p:nvSpPr>
        <p:spPr>
          <a:xfrm>
            <a:off x="454176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61" name="">
            <a:hlinkClick r:id="rId1" action="ppaction://hlinksldjump"/>
          </p:cNvPr>
          <p:cNvSpPr/>
          <p:nvPr/>
        </p:nvSpPr>
        <p:spPr>
          <a:xfrm>
            <a:off x="0" y="611964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4907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  <a:path fill="darken" w="36811" h="21600">
                <a:moveTo>
                  <a:pt x="11399" y="3794"/>
                </a:moveTo>
                <a:lnTo>
                  <a:pt x="13062" y="3794"/>
                </a:lnTo>
                <a:lnTo>
                  <a:pt x="13062" y="17806"/>
                </a:lnTo>
                <a:lnTo>
                  <a:pt x="11399" y="17806"/>
                </a:lnTo>
                <a:close/>
              </a:path>
            </a:pathLst>
          </a:custGeom>
          <a:solidFill>
            <a:srgbClr val="0068ae">
              <a:alpha val="50000"/>
            </a:srgbClr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2514600" y="4642560"/>
            <a:ext cx="3738600" cy="576720"/>
            <a:chOff x="2514600" y="4642560"/>
            <a:chExt cx="3738600" cy="576720"/>
          </a:xfrm>
        </p:grpSpPr>
        <p:sp>
          <p:nvSpPr>
            <p:cNvPr id="1763" name=""/>
            <p:cNvSpPr/>
            <p:nvPr/>
          </p:nvSpPr>
          <p:spPr>
            <a:xfrm flipH="1" flipV="1">
              <a:off x="2514600" y="4648320"/>
              <a:ext cx="1295280" cy="29520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835440" y="4642560"/>
              <a:ext cx="241776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lting - P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523880" y="5298120"/>
            <a:ext cx="4681440" cy="576720"/>
            <a:chOff x="1523880" y="5298120"/>
            <a:chExt cx="4681440" cy="576720"/>
          </a:xfrm>
        </p:grpSpPr>
        <p:sp>
          <p:nvSpPr>
            <p:cNvPr id="1766" name=""/>
            <p:cNvSpPr/>
            <p:nvPr/>
          </p:nvSpPr>
          <p:spPr>
            <a:xfrm flipH="1">
              <a:off x="1523880" y="5638680"/>
              <a:ext cx="2673360" cy="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144320" y="5298120"/>
              <a:ext cx="20610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olid - K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49480" y="3975840"/>
            <a:ext cx="3961440" cy="576720"/>
            <a:chOff x="2949480" y="3975840"/>
            <a:chExt cx="3961440" cy="576720"/>
          </a:xfrm>
        </p:grpSpPr>
        <p:sp>
          <p:nvSpPr>
            <p:cNvPr id="1769" name=""/>
            <p:cNvSpPr/>
            <p:nvPr/>
          </p:nvSpPr>
          <p:spPr>
            <a:xfrm flipH="1">
              <a:off x="2949480" y="4284720"/>
              <a:ext cx="1596960" cy="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590720" y="3975840"/>
              <a:ext cx="23202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quid - K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5334120" y="3124080"/>
            <a:ext cx="2976120" cy="712080"/>
            <a:chOff x="5334120" y="3124080"/>
            <a:chExt cx="2976120" cy="712080"/>
          </a:xfrm>
        </p:grpSpPr>
        <p:sp>
          <p:nvSpPr>
            <p:cNvPr id="1772" name=""/>
            <p:cNvSpPr/>
            <p:nvPr/>
          </p:nvSpPr>
          <p:spPr>
            <a:xfrm flipH="1" flipV="1">
              <a:off x="5334120" y="3124080"/>
              <a:ext cx="544320" cy="42048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971680" y="3259440"/>
              <a:ext cx="233856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oiling - PE 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4699800" y="2302560"/>
            <a:ext cx="2496240" cy="745560"/>
            <a:chOff x="4699800" y="2302560"/>
            <a:chExt cx="2496240" cy="745560"/>
          </a:xfrm>
        </p:grpSpPr>
        <p:sp>
          <p:nvSpPr>
            <p:cNvPr id="1775" name=""/>
            <p:cNvSpPr/>
            <p:nvPr/>
          </p:nvSpPr>
          <p:spPr>
            <a:xfrm>
              <a:off x="6651720" y="2627280"/>
              <a:ext cx="544320" cy="420840"/>
            </a:xfrm>
            <a:prstGeom prst="line">
              <a:avLst/>
            </a:prstGeom>
            <a:ln cap="sq" w="32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99800" y="2302560"/>
              <a:ext cx="1922400" cy="576720"/>
            </a:xfrm>
            <a:prstGeom prst="roundRect">
              <a:avLst>
                <a:gd name="adj" fmla="val 16667"/>
              </a:avLst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as - KE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Temperatur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change in KE (molecular motion) 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depends on heat capacity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79" name=""/>
          <p:cNvSpPr/>
          <p:nvPr/>
        </p:nvSpPr>
        <p:spPr>
          <a:xfrm>
            <a:off x="457200" y="3822840"/>
            <a:ext cx="8458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Capacity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raise the temp of 1 gram of a substance by 1°C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Volcano” clip -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water has a very high heat capacity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0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Phas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change in PE (molecular arrangement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temp remains constant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3" name=""/>
          <p:cNvSpPr/>
          <p:nvPr/>
        </p:nvSpPr>
        <p:spPr>
          <a:xfrm>
            <a:off x="457200" y="4289400"/>
            <a:ext cx="84582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of Fusion 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Bright"/>
              </a:rPr>
              <a:t>fus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melt 1 gram of a substance at its m.p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84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Lucida Bright"/>
              </a:rPr>
              <a:t>Heating Curves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Heat of Vaporization 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Lucida Bright"/>
              </a:rPr>
              <a:t>vap</a:t>
            </a:r>
            <a:r>
              <a:rPr b="0" lang="en-US" sz="28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energy required to boil 1 gram of a substance at its b.p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usually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Lucida Bright"/>
              </a:rPr>
              <a:t>fus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1469880" y="3583080"/>
            <a:ext cx="4462560" cy="257976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sp>
        <p:nvSpPr>
          <p:cNvPr id="1788" name=""/>
          <p:cNvSpPr/>
          <p:nvPr/>
        </p:nvSpPr>
        <p:spPr>
          <a:xfrm>
            <a:off x="2698200" y="6554880"/>
            <a:ext cx="37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Christy Johannesson www.nisd.net/communicationsarts/pages/chem</a:t>
            </a: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66b"/>
                </a:solidFill>
                <a:latin typeface="Lucida Bright"/>
              </a:rPr>
              <a:t>Humor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A small piece of ice which lived in a test tube fell in love with a Bunsen burner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“</a:t>
            </a: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Bunsen!  My flame!  I melt whenever I see you” said the ice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66b"/>
                </a:solidFill>
                <a:latin typeface="Lucida Bright"/>
              </a:rPr>
              <a:t>The Bunsen burner replied”  “It’s just a phase you’re going through”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6302880" y="5135400"/>
            <a:ext cx="246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B     warm ice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     melt ice (soli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liquid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D     warm water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E     boil water (liquid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gas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D     condense steam (gas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liquid)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F     superheat steam</a:t>
            </a:r>
            <a:endParaRPr b="0" lang="en-US" sz="10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Lucida Bright"/>
              </a:rPr>
              <a:t>Heating Curve for Water</a:t>
            </a:r>
            <a:br>
              <a:rPr sz="3600"/>
            </a:br>
            <a:r>
              <a:rPr b="0" lang="en-US" sz="2000" spc="-1" strike="noStrike">
                <a:solidFill>
                  <a:srgbClr val="ccecff"/>
                </a:solidFill>
                <a:latin typeface="Lucida Bright"/>
              </a:rPr>
              <a:t>(Phase Diagram)</a:t>
            </a:r>
            <a:endParaRPr b="0" lang="en-US" sz="2000" spc="-1" strike="noStrike">
              <a:solidFill>
                <a:srgbClr val="ccecff"/>
              </a:solidFill>
              <a:latin typeface="Lucida Bright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781280" y="1270080"/>
            <a:ext cx="6756120" cy="4994280"/>
            <a:chOff x="1781280" y="1270080"/>
            <a:chExt cx="6756120" cy="4994280"/>
          </a:xfrm>
        </p:grpSpPr>
        <p:sp>
          <p:nvSpPr>
            <p:cNvPr id="1794" name=""/>
            <p:cNvSpPr/>
            <p:nvPr/>
          </p:nvSpPr>
          <p:spPr>
            <a:xfrm>
              <a:off x="1781280" y="1270080"/>
              <a:ext cx="0" cy="499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781280" y="6264360"/>
              <a:ext cx="675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Lucida Bright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874800" y="1190520"/>
            <a:ext cx="6379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-689040" y="35330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8" name=""/>
          <p:cNvSpPr/>
          <p:nvPr/>
        </p:nvSpPr>
        <p:spPr>
          <a:xfrm>
            <a:off x="4610880" y="6300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99" name=""/>
          <p:cNvSpPr/>
          <p:nvPr/>
        </p:nvSpPr>
        <p:spPr>
          <a:xfrm>
            <a:off x="1521000" y="2165400"/>
            <a:ext cx="25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0" name=""/>
          <p:cNvSpPr/>
          <p:nvPr/>
        </p:nvSpPr>
        <p:spPr>
          <a:xfrm>
            <a:off x="1515960" y="4160880"/>
            <a:ext cx="25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1" name=""/>
          <p:cNvSpPr/>
          <p:nvPr/>
        </p:nvSpPr>
        <p:spPr>
          <a:xfrm>
            <a:off x="1456920" y="1903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2" name=""/>
          <p:cNvSpPr/>
          <p:nvPr/>
        </p:nvSpPr>
        <p:spPr>
          <a:xfrm>
            <a:off x="1432080" y="3898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P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876320" y="4157640"/>
            <a:ext cx="798480" cy="166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4" name=""/>
          <p:cNvSpPr/>
          <p:nvPr/>
        </p:nvSpPr>
        <p:spPr>
          <a:xfrm>
            <a:off x="2674800" y="4156200"/>
            <a:ext cx="10368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3714840" y="2153880"/>
            <a:ext cx="1461960" cy="2001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6" name=""/>
          <p:cNvSpPr/>
          <p:nvPr/>
        </p:nvSpPr>
        <p:spPr>
          <a:xfrm>
            <a:off x="5178600" y="2152800"/>
            <a:ext cx="19652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7143840" y="1345680"/>
            <a:ext cx="436320" cy="806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8" name=""/>
          <p:cNvSpPr/>
          <p:nvPr/>
        </p:nvSpPr>
        <p:spPr>
          <a:xfrm>
            <a:off x="1976400" y="5667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09" name=""/>
          <p:cNvSpPr/>
          <p:nvPr/>
        </p:nvSpPr>
        <p:spPr>
          <a:xfrm>
            <a:off x="2412720" y="3862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0" name=""/>
          <p:cNvSpPr/>
          <p:nvPr/>
        </p:nvSpPr>
        <p:spPr>
          <a:xfrm>
            <a:off x="3805200" y="403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1" name=""/>
          <p:cNvSpPr/>
          <p:nvPr/>
        </p:nvSpPr>
        <p:spPr>
          <a:xfrm>
            <a:off x="4884480" y="1882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2" name=""/>
          <p:cNvSpPr/>
          <p:nvPr/>
        </p:nvSpPr>
        <p:spPr>
          <a:xfrm>
            <a:off x="6876720" y="1841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3" name=""/>
          <p:cNvSpPr/>
          <p:nvPr/>
        </p:nvSpPr>
        <p:spPr>
          <a:xfrm>
            <a:off x="7641000" y="11444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4" name=""/>
          <p:cNvSpPr/>
          <p:nvPr/>
        </p:nvSpPr>
        <p:spPr>
          <a:xfrm>
            <a:off x="2235240" y="1911240"/>
            <a:ext cx="2012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 x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5" name=""/>
          <p:cNvSpPr/>
          <p:nvPr/>
        </p:nvSpPr>
        <p:spPr>
          <a:xfrm>
            <a:off x="2467800" y="2184480"/>
            <a:ext cx="152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333 J/g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2995560" y="2533680"/>
            <a:ext cx="33984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7" name=""/>
          <p:cNvSpPr/>
          <p:nvPr/>
        </p:nvSpPr>
        <p:spPr>
          <a:xfrm>
            <a:off x="4983840" y="1244520"/>
            <a:ext cx="20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 x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8" name=""/>
          <p:cNvSpPr/>
          <p:nvPr/>
        </p:nvSpPr>
        <p:spPr>
          <a:xfrm>
            <a:off x="5173200" y="1517760"/>
            <a:ext cx="167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256 J/g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19" name=""/>
          <p:cNvSpPr/>
          <p:nvPr/>
        </p:nvSpPr>
        <p:spPr>
          <a:xfrm>
            <a:off x="4469760" y="3370320"/>
            <a:ext cx="272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liqu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0" name=""/>
          <p:cNvSpPr/>
          <p:nvPr/>
        </p:nvSpPr>
        <p:spPr>
          <a:xfrm>
            <a:off x="4841640" y="3646440"/>
            <a:ext cx="198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4.184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1" name=""/>
          <p:cNvSpPr/>
          <p:nvPr/>
        </p:nvSpPr>
        <p:spPr>
          <a:xfrm>
            <a:off x="2574720" y="5049720"/>
            <a:ext cx="268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sol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2" name=""/>
          <p:cNvSpPr/>
          <p:nvPr/>
        </p:nvSpPr>
        <p:spPr>
          <a:xfrm>
            <a:off x="2773080" y="5326200"/>
            <a:ext cx="22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 (i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.077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3" name=""/>
          <p:cNvSpPr/>
          <p:nvPr/>
        </p:nvSpPr>
        <p:spPr>
          <a:xfrm>
            <a:off x="5731560" y="2390760"/>
            <a:ext cx="2602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 m x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p, ga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4" name=""/>
          <p:cNvSpPr/>
          <p:nvPr/>
        </p:nvSpPr>
        <p:spPr>
          <a:xfrm>
            <a:off x="5794920" y="2666880"/>
            <a:ext cx="246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 (steam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 2.042 J/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5" name=""/>
          <p:cNvSpPr/>
          <p:nvPr/>
        </p:nvSpPr>
        <p:spPr>
          <a:xfrm flipH="1" flipV="1">
            <a:off x="2476440" y="4771800"/>
            <a:ext cx="463680" cy="29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6" name=""/>
          <p:cNvSpPr/>
          <p:nvPr/>
        </p:nvSpPr>
        <p:spPr>
          <a:xfrm flipH="1" flipV="1">
            <a:off x="4605120" y="3133440"/>
            <a:ext cx="231480" cy="260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7" name=""/>
          <p:cNvSpPr/>
          <p:nvPr/>
        </p:nvSpPr>
        <p:spPr>
          <a:xfrm>
            <a:off x="7416720" y="1892160"/>
            <a:ext cx="285840" cy="4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28" name=""/>
          <p:cNvSpPr/>
          <p:nvPr/>
        </p:nvSpPr>
        <p:spPr>
          <a:xfrm>
            <a:off x="5997600" y="1865160"/>
            <a:ext cx="109440" cy="2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indefinite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indefinite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indefinite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indefinite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Calculating Energy Changes - Heating Curve for Water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30" name=""/>
          <p:cNvSpPr/>
          <p:nvPr/>
        </p:nvSpPr>
        <p:spPr>
          <a:xfrm>
            <a:off x="1447920" y="2209680"/>
            <a:ext cx="7086600" cy="3962520"/>
          </a:xfrm>
          <a:prstGeom prst="rect">
            <a:avLst/>
          </a:prstGeom>
          <a:solidFill>
            <a:srgbClr val="e5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1" name=""/>
          <p:cNvSpPr/>
          <p:nvPr/>
        </p:nvSpPr>
        <p:spPr>
          <a:xfrm>
            <a:off x="1447920" y="31240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2" name=""/>
          <p:cNvSpPr/>
          <p:nvPr/>
        </p:nvSpPr>
        <p:spPr>
          <a:xfrm>
            <a:off x="1447920" y="58672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3" name=""/>
          <p:cNvSpPr/>
          <p:nvPr/>
        </p:nvSpPr>
        <p:spPr>
          <a:xfrm>
            <a:off x="1447920" y="55627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2578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5" name=""/>
          <p:cNvSpPr/>
          <p:nvPr/>
        </p:nvSpPr>
        <p:spPr>
          <a:xfrm>
            <a:off x="1447920" y="49528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6" name=""/>
          <p:cNvSpPr/>
          <p:nvPr/>
        </p:nvSpPr>
        <p:spPr>
          <a:xfrm>
            <a:off x="1447920" y="46483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7" name=""/>
          <p:cNvSpPr/>
          <p:nvPr/>
        </p:nvSpPr>
        <p:spPr>
          <a:xfrm>
            <a:off x="1447920" y="43434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8" name=""/>
          <p:cNvSpPr/>
          <p:nvPr/>
        </p:nvSpPr>
        <p:spPr>
          <a:xfrm>
            <a:off x="1447920" y="40384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39" name=""/>
          <p:cNvSpPr/>
          <p:nvPr/>
        </p:nvSpPr>
        <p:spPr>
          <a:xfrm>
            <a:off x="1447920" y="37339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0" name=""/>
          <p:cNvSpPr/>
          <p:nvPr/>
        </p:nvSpPr>
        <p:spPr>
          <a:xfrm>
            <a:off x="1447920" y="34290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1" name=""/>
          <p:cNvSpPr/>
          <p:nvPr/>
        </p:nvSpPr>
        <p:spPr>
          <a:xfrm>
            <a:off x="1447920" y="281952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2" name=""/>
          <p:cNvSpPr/>
          <p:nvPr/>
        </p:nvSpPr>
        <p:spPr>
          <a:xfrm>
            <a:off x="1447920" y="251460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3" name=""/>
          <p:cNvSpPr/>
          <p:nvPr/>
        </p:nvSpPr>
        <p:spPr>
          <a:xfrm>
            <a:off x="1447920" y="2209680"/>
            <a:ext cx="7010280" cy="0"/>
          </a:xfrm>
          <a:prstGeom prst="line">
            <a:avLst/>
          </a:prstGeom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4" name=""/>
          <p:cNvSpPr/>
          <p:nvPr/>
        </p:nvSpPr>
        <p:spPr>
          <a:xfrm rot="16200000">
            <a:off x="-523080" y="40518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erature (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5" name=""/>
          <p:cNvSpPr/>
          <p:nvPr/>
        </p:nvSpPr>
        <p:spPr>
          <a:xfrm>
            <a:off x="915840" y="38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6" name=""/>
          <p:cNvSpPr/>
          <p:nvPr/>
        </p:nvSpPr>
        <p:spPr>
          <a:xfrm>
            <a:off x="917280" y="4164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7" name=""/>
          <p:cNvSpPr/>
          <p:nvPr/>
        </p:nvSpPr>
        <p:spPr>
          <a:xfrm>
            <a:off x="1047960" y="4452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8" name=""/>
          <p:cNvSpPr/>
          <p:nvPr/>
        </p:nvSpPr>
        <p:spPr>
          <a:xfrm>
            <a:off x="840240" y="47577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49" name=""/>
          <p:cNvSpPr/>
          <p:nvPr/>
        </p:nvSpPr>
        <p:spPr>
          <a:xfrm>
            <a:off x="840240" y="506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0" name=""/>
          <p:cNvSpPr/>
          <p:nvPr/>
        </p:nvSpPr>
        <p:spPr>
          <a:xfrm>
            <a:off x="822960" y="53672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1" name=""/>
          <p:cNvSpPr/>
          <p:nvPr/>
        </p:nvSpPr>
        <p:spPr>
          <a:xfrm>
            <a:off x="822960" y="56880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2" name=""/>
          <p:cNvSpPr/>
          <p:nvPr/>
        </p:nvSpPr>
        <p:spPr>
          <a:xfrm>
            <a:off x="687960" y="5992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3" name=""/>
          <p:cNvSpPr/>
          <p:nvPr/>
        </p:nvSpPr>
        <p:spPr>
          <a:xfrm>
            <a:off x="765000" y="262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4" name=""/>
          <p:cNvSpPr/>
          <p:nvPr/>
        </p:nvSpPr>
        <p:spPr>
          <a:xfrm>
            <a:off x="765000" y="29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5" name=""/>
          <p:cNvSpPr/>
          <p:nvPr/>
        </p:nvSpPr>
        <p:spPr>
          <a:xfrm>
            <a:off x="906480" y="3233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6" name=""/>
          <p:cNvSpPr/>
          <p:nvPr/>
        </p:nvSpPr>
        <p:spPr>
          <a:xfrm>
            <a:off x="906480" y="3538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7" name=""/>
          <p:cNvSpPr/>
          <p:nvPr/>
        </p:nvSpPr>
        <p:spPr>
          <a:xfrm>
            <a:off x="765000" y="2319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447920" y="4648320"/>
            <a:ext cx="457200" cy="12189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4648320"/>
            <a:ext cx="76176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2666880" y="3124080"/>
            <a:ext cx="1067040" cy="15242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1" name=""/>
          <p:cNvSpPr/>
          <p:nvPr/>
        </p:nvSpPr>
        <p:spPr>
          <a:xfrm>
            <a:off x="3733920" y="3124080"/>
            <a:ext cx="3429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7162920" y="2437920"/>
            <a:ext cx="228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3" name=""/>
          <p:cNvSpPr/>
          <p:nvPr/>
        </p:nvSpPr>
        <p:spPr>
          <a:xfrm>
            <a:off x="1905120" y="5486400"/>
            <a:ext cx="304776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4" name=""/>
          <p:cNvSpPr/>
          <p:nvPr/>
        </p:nvSpPr>
        <p:spPr>
          <a:xfrm>
            <a:off x="3276720" y="4114800"/>
            <a:ext cx="304776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5" name=""/>
          <p:cNvSpPr/>
          <p:nvPr/>
        </p:nvSpPr>
        <p:spPr>
          <a:xfrm>
            <a:off x="5410080" y="3429000"/>
            <a:ext cx="304812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6" name=""/>
          <p:cNvSpPr/>
          <p:nvPr/>
        </p:nvSpPr>
        <p:spPr>
          <a:xfrm>
            <a:off x="1523880" y="2514600"/>
            <a:ext cx="221004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7" name=""/>
          <p:cNvSpPr/>
          <p:nvPr/>
        </p:nvSpPr>
        <p:spPr>
          <a:xfrm>
            <a:off x="4419720" y="2286000"/>
            <a:ext cx="220968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8" name=""/>
          <p:cNvSpPr/>
          <p:nvPr/>
        </p:nvSpPr>
        <p:spPr>
          <a:xfrm flipH="1" flipV="1">
            <a:off x="1752480" y="525744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2285640" y="3124080"/>
            <a:ext cx="2286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0" name=""/>
          <p:cNvSpPr/>
          <p:nvPr/>
        </p:nvSpPr>
        <p:spPr>
          <a:xfrm flipH="1" flipV="1">
            <a:off x="3200040" y="39621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1" name=""/>
          <p:cNvSpPr/>
          <p:nvPr/>
        </p:nvSpPr>
        <p:spPr>
          <a:xfrm>
            <a:off x="5257800" y="2895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2" name=""/>
          <p:cNvSpPr/>
          <p:nvPr/>
        </p:nvSpPr>
        <p:spPr>
          <a:xfrm flipH="1" flipV="1">
            <a:off x="7314840" y="281916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3" name=""/>
          <p:cNvSpPr/>
          <p:nvPr/>
        </p:nvSpPr>
        <p:spPr>
          <a:xfrm>
            <a:off x="454176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2590920"/>
            <a:ext cx="213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  =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fu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5" name=""/>
          <p:cNvSpPr/>
          <p:nvPr/>
        </p:nvSpPr>
        <p:spPr>
          <a:xfrm>
            <a:off x="4511520" y="2362320"/>
            <a:ext cx="200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  =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vap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6" name=""/>
          <p:cNvSpPr/>
          <p:nvPr/>
        </p:nvSpPr>
        <p:spPr>
          <a:xfrm>
            <a:off x="3276720" y="420516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liqu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7" name=""/>
          <p:cNvSpPr/>
          <p:nvPr/>
        </p:nvSpPr>
        <p:spPr>
          <a:xfrm>
            <a:off x="5492880" y="3519360"/>
            <a:ext cx="287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gas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8" name=""/>
          <p:cNvSpPr/>
          <p:nvPr/>
        </p:nvSpPr>
        <p:spPr>
          <a:xfrm>
            <a:off x="1905120" y="5562720"/>
            <a:ext cx="312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 =  mass x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  x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, solid</a:t>
            </a:r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79" name="">
            <a:hlinkClick r:id="rId1" action="ppaction://hlinksldjump"/>
          </p:cNvPr>
          <p:cNvSpPr/>
          <p:nvPr/>
        </p:nvSpPr>
        <p:spPr>
          <a:xfrm>
            <a:off x="0" y="6119640"/>
            <a:ext cx="609480" cy="35748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6811" h="21600">
                <a:moveTo>
                  <a:pt x="0" y="0"/>
                </a:moveTo>
                <a:lnTo>
                  <a:pt x="36811" y="0"/>
                </a:lnTo>
                <a:lnTo>
                  <a:pt x="36811" y="21600"/>
                </a:lnTo>
                <a:lnTo>
                  <a:pt x="0" y="21600"/>
                </a:lnTo>
                <a:close/>
              </a:path>
              <a:path fill="lightenLess" w="36811" h="21600">
                <a:moveTo>
                  <a:pt x="0" y="0"/>
                </a:moveTo>
                <a:lnTo>
                  <a:pt x="36811" y="0"/>
                </a:lnTo>
                <a:lnTo>
                  <a:pt x="35411" y="1400"/>
                </a:lnTo>
                <a:lnTo>
                  <a:pt x="1400" y="1400"/>
                </a:lnTo>
                <a:close/>
              </a:path>
              <a:path fill="darken" w="36811" h="21600">
                <a:moveTo>
                  <a:pt x="36811" y="0"/>
                </a:moveTo>
                <a:lnTo>
                  <a:pt x="36811" y="21600"/>
                </a:lnTo>
                <a:lnTo>
                  <a:pt x="35411" y="20200"/>
                </a:lnTo>
                <a:lnTo>
                  <a:pt x="35411" y="1400"/>
                </a:lnTo>
                <a:close/>
              </a:path>
              <a:path fill="darkenLess" w="36811" h="21600">
                <a:moveTo>
                  <a:pt x="3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11" y="20200"/>
                </a:lnTo>
                <a:close/>
              </a:path>
              <a:path fill="lighten" w="3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11" h="21600">
                <a:moveTo>
                  <a:pt x="14907" y="10800"/>
                </a:moveTo>
                <a:lnTo>
                  <a:pt x="25412" y="3794"/>
                </a:lnTo>
                <a:lnTo>
                  <a:pt x="25412" y="17806"/>
                </a:lnTo>
                <a:close/>
              </a:path>
              <a:path fill="darken" w="36811" h="21600">
                <a:moveTo>
                  <a:pt x="11399" y="3794"/>
                </a:moveTo>
                <a:lnTo>
                  <a:pt x="13062" y="3794"/>
                </a:lnTo>
                <a:lnTo>
                  <a:pt x="13062" y="17806"/>
                </a:lnTo>
                <a:lnTo>
                  <a:pt x="11399" y="17806"/>
                </a:lnTo>
                <a:close/>
              </a:path>
            </a:pathLst>
          </a:custGeom>
          <a:solidFill>
            <a:srgbClr val="0068ae">
              <a:alpha val="50000"/>
            </a:srgbClr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Physical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wo physical changes in a system that are associated with significant changes in the enthalpy of a system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Dissolving one substance into another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Phase change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Chemical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A chemical change results in the formation of a new substance(s) with different physical and chemical properties than the initial substance(s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Adding Alka-Seltzer to water will produce a gas.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Combustion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Potassium to water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 u="sng">
                <a:solidFill>
                  <a:srgbClr val="ccecff"/>
                </a:solidFill>
                <a:uFillTx/>
                <a:latin typeface="Lucida Bright"/>
              </a:rPr>
              <a:t>Last Clas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hermochemistr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ransfer of 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Systems and Surroundings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Heat (Q)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 u="sng">
                <a:solidFill>
                  <a:srgbClr val="ccecff"/>
                </a:solidFill>
                <a:uFillTx/>
                <a:latin typeface="Lucida Bright"/>
              </a:rPr>
              <a:t>Indicators of Chemical Reaction</a:t>
            </a:r>
            <a:endParaRPr b="0" lang="en-US" sz="40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Change in colour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Heat is released (exothermic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Heat is absorbed (endothermic)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Light produc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Precipitate is form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Gas is produced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Change in smell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Change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toms spontaneously emit particles from their nuclei and are transformed into other element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Two Types: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lpha decay (penetrating power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stopped by paper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Lucida Br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Beta decay (penetrating power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stopped by a few cm of water or wood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Alpha Deca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Nucleus emits an alpha 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particle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Resulting nucleus has two fewer protons and two fewer neutron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0" name="Picture 3" descr=""/>
          <p:cNvPicPr/>
          <p:nvPr/>
        </p:nvPicPr>
        <p:blipFill>
          <a:blip r:embed="rId1"/>
          <a:stretch/>
        </p:blipFill>
        <p:spPr>
          <a:xfrm>
            <a:off x="1171440" y="2852640"/>
            <a:ext cx="67820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Beta Deca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Nucleus emits a  beat (</a:t>
            </a:r>
            <a:r>
              <a:rPr b="0" lang="el-GR" sz="24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particle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A neutron in the nucleus becomes a proton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3" name="Picture 2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329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Fiss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Process in which a heavier nucleus splits into smaller, lighter nuclei with the release of energy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896" name="Picture 2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92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Albert Einstei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E = energy released during a nuclear reaction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m = mass (kg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c = light constant (3.00 x 10</a:t>
            </a:r>
            <a:r>
              <a:rPr b="0" lang="en-CA" sz="2400" spc="-1" strike="noStrike" baseline="30000">
                <a:solidFill>
                  <a:srgbClr val="ffffff"/>
                </a:solidFill>
                <a:latin typeface="Lucida Bright"/>
              </a:rPr>
              <a:t>8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m/s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This equation allows you to determine how much energy is released during nuclear fission 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899" name="TextBox 3"/>
          <p:cNvSpPr/>
          <p:nvPr/>
        </p:nvSpPr>
        <p:spPr>
          <a:xfrm flipH="1">
            <a:off x="3564000" y="1628640"/>
            <a:ext cx="1800000" cy="520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E = mc</a:t>
            </a:r>
            <a:r>
              <a:rPr b="0" lang="en-CA" sz="2800" spc="-1" strike="noStrike" baseline="30000">
                <a:solidFill>
                  <a:srgbClr val="ffffff"/>
                </a:solidFill>
                <a:latin typeface="Lucida Bright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Using Einstein’s Formula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1) When 1 mol of uranium-235 fissions, the amount of mass that is converted into energy is 2.15x10</a:t>
            </a:r>
            <a:r>
              <a:rPr b="0" lang="en-CA" sz="2800" spc="-1" strike="noStrike" baseline="30000">
                <a:solidFill>
                  <a:srgbClr val="ffffff"/>
                </a:solidFill>
                <a:latin typeface="Lucida Bright"/>
              </a:rPr>
              <a:t>-4</a:t>
            </a: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 kg. calculate the amount of energy released when 1 mol of uranium-235 fissions.</a:t>
            </a: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Fus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Two very small nuclei combine, or fuse, to form a slightly larger nucleu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Occurs in </a:t>
            </a: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the sun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904" name="Picture 2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26428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Nuclear Reaction Example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Complete the following reactions: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90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4295520" cy="19238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6" descr=""/>
          <p:cNvPicPr/>
          <p:nvPr/>
        </p:nvPicPr>
        <p:blipFill>
          <a:blip r:embed="rId2"/>
          <a:stretch/>
        </p:blipFill>
        <p:spPr>
          <a:xfrm>
            <a:off x="1692360" y="4051440"/>
            <a:ext cx="4295520" cy="85860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7" descr=""/>
          <p:cNvPicPr/>
          <p:nvPr/>
        </p:nvPicPr>
        <p:blipFill>
          <a:blip r:embed="rId3"/>
          <a:stretch/>
        </p:blipFill>
        <p:spPr>
          <a:xfrm>
            <a:off x="1692360" y="4896000"/>
            <a:ext cx="42955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Range of ∆H for Reaction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539640" y="1916280"/>
          <a:ext cx="7715520" cy="3890880"/>
        </p:xfrm>
        <a:graphic>
          <a:graphicData uri="http://schemas.openxmlformats.org/drawingml/2006/table">
            <a:tbl>
              <a:tblPr/>
              <a:tblGrid>
                <a:gridCol w="1656000"/>
                <a:gridCol w="2808000"/>
                <a:gridCol w="3251520"/>
              </a:tblGrid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Type of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Range of ∆H Values (kJ/mo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±0.44 to ± 4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Heat absorbed during division of one bacterial ce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 Average kinetic energy of a molec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Chem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±196.4 to ± 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Combustion of gluc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TNT explo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1kW(h) of electrical ener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Nucl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1.13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Lucida Bright"/>
                        </a:rPr>
                        <a:t>8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to -2x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Lucida Bright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Daily solar energy falling on Ear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Energy of a strong earthqu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-Daily output of Niagara Falls d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Lucida Br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ccecff"/>
                </a:solidFill>
                <a:uFillTx/>
                <a:latin typeface="Lucida Bright"/>
              </a:rPr>
              <a:t>Outline</a:t>
            </a: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Thermodynamics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Physical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Lucida Bright"/>
              </a:rPr>
              <a:t>Nuclear change</a:t>
            </a: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Readings page 282-291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Page 291 #3, 8, 10, 11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Thermodynamics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study of energy and its transfers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First Law of 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(law of conservation of energy) the energy of a system remains constant and therefore, energy cannot be created nor destroyed; it can only be transformed from one form to another. (E</a:t>
            </a:r>
            <a:r>
              <a:rPr b="0" lang="en-US" sz="1800" spc="-1" strike="noStrike">
                <a:solidFill>
                  <a:srgbClr val="ffffff"/>
                </a:solidFill>
                <a:latin typeface="Lucida Bright"/>
              </a:rPr>
              <a:t>system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= -E</a:t>
            </a:r>
            <a:r>
              <a:rPr b="0" lang="en-US" sz="1800" spc="-1" strike="noStrike">
                <a:solidFill>
                  <a:srgbClr val="ffffff"/>
                </a:solidFill>
                <a:latin typeface="Lucida Bright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Bright"/>
              </a:rPr>
              <a:t>Second Law of Thermodynamics-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 a law stating that when two objects are in thermal contact, heat is always transferred from the object at a higher temperature to the object at a lower temperature until the two objects are at the same temperature</a:t>
            </a:r>
            <a:r>
              <a:rPr b="0" lang="en-US" sz="2400" spc="-1" strike="noStrike">
                <a:solidFill>
                  <a:srgbClr val="ffffff"/>
                </a:solidFill>
                <a:latin typeface="Lucida Brigh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Definition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PV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Since E, P and V are a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Lucida Bright"/>
                <a:ea typeface="Arial Unicode MS"/>
              </a:rPr>
              <a:t>state functions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, then H is too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When working with solids and liquids in solution, we assume that there is no change in pressure s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PV=0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So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=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 = Q (heat)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, or Q or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∆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pends on the pressure.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Bright"/>
                <a:ea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  <p:sp>
        <p:nvSpPr>
          <p:cNvPr id="1712" name="Rectangle 9"/>
          <p:cNvSpPr/>
          <p:nvPr/>
        </p:nvSpPr>
        <p:spPr>
          <a:xfrm>
            <a:off x="1676520" y="5943600"/>
            <a:ext cx="14475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Lucida Bright"/>
              </a:rPr>
              <a:t>Enthalpy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Heat of reaction and change in enthalpy are used interchangeably for a reaction at constant pressure, P.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∆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H =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Lucida Bright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 -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Lucida Bright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endo:  + ∆H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exo: - ∆H</a:t>
            </a:r>
            <a:r>
              <a:rPr b="0" lang="en-US" sz="3200" spc="-1" strike="noStrike">
                <a:solidFill>
                  <a:srgbClr val="ffffff"/>
                </a:solidFill>
                <a:latin typeface="Lucida Brigh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thalpy of Solution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Lucida Bright"/>
              </a:rPr>
              <a:t>Enthalpy of Solution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 (</a:t>
            </a:r>
            <a:r>
              <a:rPr b="0" lang="el-GR" sz="2400" spc="-1" strike="noStrike">
                <a:solidFill>
                  <a:srgbClr val="ffffff"/>
                </a:solidFill>
                <a:latin typeface="Lucida Bright"/>
              </a:rPr>
              <a:t>Δ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H</a:t>
            </a:r>
            <a:r>
              <a:rPr b="0" lang="en-CA" sz="1200" spc="-1" strike="noStrike">
                <a:solidFill>
                  <a:srgbClr val="ffffff"/>
                </a:solidFill>
                <a:latin typeface="Lucida Bright"/>
              </a:rPr>
              <a:t>solution</a:t>
            </a:r>
            <a:r>
              <a:rPr b="0" lang="en-CA" sz="2400" spc="-1" strike="noStrike">
                <a:solidFill>
                  <a:srgbClr val="ffffff"/>
                </a:solidFill>
                <a:latin typeface="Lucida Bright"/>
              </a:rPr>
              <a:t>)- the enthalpy change associated with a solute dissolving in a solvent.</a:t>
            </a: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Three steps, each involving an enthalpy change that must occur for a solute to become dissolved in water or in another solvent: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between molecules/ions of a solute must be broken to make room for the solute molecules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between solvent molecules must be broken to make room for the solute molecules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Lucida Brigh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Lucida Bright"/>
              </a:rPr>
              <a:t>Bonds must form between the solvent molecules and solute molecules or ions (i.e., intermolecular, ionic, dipole-dipole, etc.)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  <a:p>
            <a:pPr lvl="1" marL="914400" indent="-457200">
              <a:spcBef>
                <a:spcPts val="601"/>
              </a:spcBef>
              <a:buClr>
                <a:srgbClr val="ccecff"/>
              </a:buClr>
              <a:buSzPct val="50000"/>
              <a:buFont typeface="Lucida Brigh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  <a:p>
            <a:pPr lvl="1" marL="914400" indent="-457200">
              <a:spcBef>
                <a:spcPts val="601"/>
              </a:spcBef>
              <a:buClr>
                <a:srgbClr val="ccecff"/>
              </a:buClr>
              <a:buSzPct val="50000"/>
              <a:buFont typeface="Lucida Brigh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Br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xothermic Energy Diagram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Bright"/>
              </a:rPr>
              <a:t>*dissolving process (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Δ</a:t>
            </a: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sol &lt; 0 ) </a:t>
            </a:r>
            <a:endParaRPr b="0" lang="en-US" sz="20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19" name="Picture 3" descr=""/>
          <p:cNvPicPr/>
          <p:nvPr/>
        </p:nvPicPr>
        <p:blipFill>
          <a:blip r:embed="rId1"/>
          <a:stretch/>
        </p:blipFill>
        <p:spPr>
          <a:xfrm>
            <a:off x="279360" y="1341360"/>
            <a:ext cx="8551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ecff"/>
                </a:solidFill>
                <a:latin typeface="Lucida Bright"/>
              </a:rPr>
              <a:t>Endothermic Energy Diagram</a:t>
            </a:r>
            <a:endParaRPr b="0" lang="en-US" sz="4400" spc="-1" strike="noStrike">
              <a:solidFill>
                <a:srgbClr val="ccecff"/>
              </a:solidFill>
              <a:latin typeface="Lucida Bright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Lucida Bright"/>
              </a:rPr>
              <a:t>*dissolving process (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Δ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Hsol &gt; 0 )</a:t>
            </a:r>
            <a:endParaRPr b="0" lang="en-US" sz="3200" spc="-1" strike="noStrike">
              <a:solidFill>
                <a:srgbClr val="ffffff"/>
              </a:solidFill>
              <a:latin typeface="Lucida Bright"/>
            </a:endParaRPr>
          </a:p>
        </p:txBody>
      </p:sp>
      <p:pic>
        <p:nvPicPr>
          <p:cNvPr id="1722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13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2:09:15Z</dcterms:created>
  <dc:creator>Sharon and JF</dc:creator>
  <dc:description/>
  <dc:language>en-US</dc:language>
  <cp:lastModifiedBy>C363966</cp:lastModifiedBy>
  <dcterms:modified xsi:type="dcterms:W3CDTF">2015-10-29T20:07:36Z</dcterms:modified>
  <cp:revision>20</cp:revision>
  <dc:subject/>
  <dc:title>Energy Change </dc:title>
</cp:coreProperties>
</file>